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86EA-904F-4408-A61B-7D22B2725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6EB-532F-4AF2-8F9D-FC5F12D84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D34C-9D37-4D16-A99E-9D1117041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98E4-BB62-41B3-8541-CB366C8E7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AE7F-914B-47EC-B439-DDADD56B2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1DDA-28D7-4A7D-B5EA-F3AE03D7F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2CE1-FFAA-4FE5-B2BA-E4411C0DD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C482-11D7-45F6-BA88-A8094619A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C32-71B9-411C-A247-649DEBDFE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8CC-72EA-423E-904E-E2809F33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5AD-EBD1-4C1B-9CD4-62E45C0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316-4E79-4C07-BB58-52AB2BF0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35E-7F77-4DD2-B9C7-DEC8BDDC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760-5E63-4FAF-8005-8664C4A5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A34-13F0-4CD5-869F-5A5F2D27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05A-84A6-4643-9328-67C6F448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BB0-73D0-4DC2-A881-FA7C598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993-CECF-4EDA-AE7B-8A3E2297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730-669E-46D3-BB57-506A86EC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A58-D6AD-4E9E-926F-8773069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7F8-92FD-4500-8751-7C2DD40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448A-C081-40DC-B81A-848C15539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hapter 9 Review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One through thre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 di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from cause to effect, or from effect to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olog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time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emonic or gimmick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a special memory device, such as alliteration, rhyme, or initial letters to spell a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Four and fiv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-pla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 variation of problem-solution organization that (1) establishes a need or deficiency, (2) offers a proposal to meet the need, (3) shows how the plans satisfies the need, and (4) suggests a plan for implementing the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-solu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 rigid organizational pattern that establishes a compelling problem and offers one or more convincing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Six through eight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c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arguments for and against some policy, position, 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the geography or physical structure of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aspects, or subtopics of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The 4-S strategy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) What is the “4 S” strategy?  Explain why this strategy is effective, and describe each ste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signpost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state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support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summarize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y it is important: the 4 S strategy provides a basic template for organizing any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Pro-con or pro-con-assessment?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) Why would a speaker change from a pro-con to a pro-con-assessment division for their speech? Explain your answer thorough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hoose to defend the stronger position (pro or con), then your speech becomes pro-con-assessment.  Pro-con is more appropriate for informative speeches; pro-con-assessment is more appropriate for persuasives spee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Transitions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What is a transition?  Why are the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ition is a statement connecting one thought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ausal, complementary, chronological, and contrasting transitions.  Pick a topic and give examples of each type of transition for that top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: emphasizes a cause and effect relationship between two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: adds one idea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ological: shows how one idea precedes or follows another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ing: shows how two ideas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Organizing quest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) What is an organizing question?  Why is it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zing question is one that will help you determine what ideas and information are necessary to develop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6:18:44Z</dcterms:created>
  <dc:creator>nuhs</dc:creator>
  <dc:description/>
  <dc:language>en-US</dc:language>
  <cp:lastModifiedBy>Ameena</cp:lastModifiedBy>
  <dcterms:modified xsi:type="dcterms:W3CDTF">2008-11-07T22:26:29Z</dcterms:modified>
  <cp:revision>9</cp:revision>
  <dc:subject/>
  <dc:title>Chapters 9 and 10 Review</dc:title>
</cp:coreProperties>
</file>